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7BC-510E-4167-BFFF-D8EF2299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29C-C31B-4691-A24C-D3D3E3F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4E7-3F06-4104-A396-48D274A7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1AD-4A2A-420F-87B5-B525C9AD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97-B5E5-474F-BFFA-3DA961F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ACB-9738-4D75-B8D1-1CF0782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A6D-EAA0-41BD-B541-AAB2E013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1D6-197A-4B36-9874-5B99C7B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2F2-3114-40A4-9F77-EEF3681B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41C-3FB7-4796-94F6-5591A8E8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3E2-0D82-4FC9-B9BF-88674EC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574-9D72-49DD-B20D-E9CE840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50E-0821-4CD4-BC5C-B20A9E64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8521920" cy="6135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02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include CD markers and T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1911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ssues for 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psed immature and mature T cell into the T cell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some generic terms such as helper T cell, memory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cells have two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the development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400" y="182880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458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9:39:52Z</dcterms:created>
  <dc:creator>Penelope Morel</dc:creator>
  <dc:description/>
  <dc:language>en-US</dc:language>
  <cp:lastModifiedBy>Penelope Morel</cp:lastModifiedBy>
  <dcterms:modified xsi:type="dcterms:W3CDTF">2008-07-24T16:58:42Z</dcterms:modified>
  <cp:revision>5</cp:revision>
  <dc:subject/>
  <dc:title>T cell ontology</dc:title>
</cp:coreProperties>
</file>